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8C8-865E-4946-9229-8CC67EE2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119-83E9-4DBC-9F8D-F47189FF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5F48-57A4-4C9B-AC46-BE084735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CB071-0732-46CB-9602-F9001CF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8A5EB-AE22-4FDA-84EF-290A16E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32A7A-6BCC-4D10-BF88-83AD2A0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CA404-A128-447E-AB0F-7B03F33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504DF-0C9A-4B61-8C59-735C6EF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A4C3D-C3E7-42FD-B474-3F1D4A8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16A3-C600-46F2-B0F8-8C1D5210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2B026-5BB2-4CB7-84D7-EF267DB5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0A87E-FDC2-4B23-A266-26936F11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4D4-26F1-401C-9405-0A2E75DE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B5A3-F00F-479E-BAAB-86E7B02E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C5464-B498-4D91-B9EA-FB1E8F93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63038-BA97-405C-9283-E8F24225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3045-77F3-4C1E-9440-D3934E0D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71C55-27F5-4F9C-A3BA-70CCF53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2A7BB-9CF4-473C-9855-5B685B1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2A89A-4974-4CC3-B5E8-1B14E51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33E87-3358-4C05-8E18-08A8C67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65AF8-3F96-4822-9F58-29770FB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9A4F5-E84F-4379-A4E3-4DB713A5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091-B375-4163-80EB-F01FAC9A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D78EF-7462-466B-8DA3-5BA3ED69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D114-A155-4681-AE1F-7371AA59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8A57F-E100-4EBB-8730-BEB4D05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584AD-E66A-4CFD-99D6-C112F73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C9F73-C0F4-4562-9FC8-CC8B9F0B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9049-ED8E-471B-8475-6455701C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EF6B2-6672-4D4F-BE4B-83944AD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7ACF5-962E-4752-A316-316778E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1013-1C69-4E42-86E4-5EBD39D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7E910-F6CB-4112-9DE0-E54E9A7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6FAE-D305-4F81-9E43-10924CE1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D6B76-242C-4AF2-9D68-38A5875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0C6D-8A1F-48AD-84FB-E013AD52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2DAF3-85FB-45CB-B8C1-91410C5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1C7E9-4D93-43CD-B3EA-F2BE6BEB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12404-6F4A-409E-87BA-5115180C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D1923-704D-4B6E-90F6-D62160B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91142-614C-4BB3-9A3E-C22D137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C32FE-ABDE-41EE-A3D8-B3BFA1BA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C0649-86CA-472C-AF01-8EF76A00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3D628-2779-47D3-8F87-1770F3DC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83D-DDFA-4F7C-9F88-B676A893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6F972-8328-49B0-9F41-8DDF549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8E071-BE51-4EC5-B1A0-57F55F05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A1FD1-7B34-49FB-B801-312FCF0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5170-7A18-40E5-BF5D-AC2283A5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2307B-AF48-49C0-B411-C61A8F97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7D7C4-5C87-4466-A181-33E8031A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AFA3A-DF44-48D8-9F23-EA5DBC5C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8D690-FEB7-4212-A609-44B4DE7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B5173-0DE8-4D84-9075-ADBFA62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7E255-DFCD-44CB-BBB2-9DCEBFD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5EF-86B2-4544-81F9-376D6F5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24932-17B5-43BF-8AAA-641C305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DF0BB-3537-43B3-859F-85A4A4E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DE5DC-E480-4993-AF98-7611A98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0D5FC-D35D-48EA-A34E-229207C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6D327-BBAB-49B2-BD76-9583E6A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B6541-0D32-4982-A575-F4377142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3BC0E-9021-4D44-BB81-3168142F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D2BDF-46F1-478F-B3AE-6D93D4BE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5A69E-5FB2-417B-8F50-BB7BB8E6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E7797-423B-442E-B2D4-AE0BE2C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6376-5B1E-47C4-978A-F1DF0237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B8BFC-3F72-4AA9-99E7-DC5DC6E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C65DA-B179-4F89-BB1B-C5692D27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3D367-EAC4-4770-9086-78C7F1F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ACCD6-578D-4A52-BD22-E132CCDF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A7897-1CD4-4A1D-A3A1-9A6289D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ECACC-C0C7-44C8-96C5-686D40C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B45A8-7C7E-44E9-AB80-DE4B292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78E50-EA3D-449B-9507-EB61A118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2C4FB-03FF-4175-83E2-CC83D45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EBE4A-9FE7-441F-B700-394A6134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693-A75D-4D48-ADB8-A33B49D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629D2-09D5-4551-9497-452C5C6E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89443-BE13-4A76-AA29-BB62245D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0C1BA-9AFA-469D-8B4B-6D78014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57B14-1926-43E2-AB5B-87399F1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3B915-16CD-47DB-A80D-429E074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33FB2-FCD1-4774-BA61-B1F93CF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8BCDD-D1D9-4E4E-B6D0-FDA7D24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DE336-DF6B-4DD6-A9B0-FC2B453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F84C2-7069-416A-836D-F1DAD09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B2267-7684-41E9-B674-3C62D923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B749-A0FD-492B-8F6C-89BCB60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6B936-DF89-4414-A78E-21123EA3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1A7C9-0A04-4839-B582-7FF666DC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C48ED-A80B-4C94-A865-F255E3D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E5276-41C3-43F6-B2E8-DA471AF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E1EE3-AF2F-41F2-95A2-3B2780BC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5369E-F29A-4673-B7F3-4EF4DAF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90203-F303-44D2-A5A0-57959321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CBD54-72DC-4AE1-A6A6-87B886B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AF07D-AB04-460E-B957-078D66E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0DDBB-B26A-47D3-BB4C-724103F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BD4-81FF-405F-89B0-6D03F58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4F992-0075-4366-9511-98F9854C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55642-F9BA-42F5-BBA5-4B414E47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F0ABB-929C-491A-AA4A-6F67910E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A1F61-7BE0-4FB5-B5F6-11700A14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F5D83-E629-46A6-AC0F-A6544A1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A2E77-923C-4AEC-A9ED-927537B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2B1C3-0E77-47D2-B1A8-DF8776DF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B84E4-83E9-4DBD-AF1F-DB2C05F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2F230-1934-455D-B847-B38AD6B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B782C-7D9D-4422-B885-8197120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574-C87F-48F0-A7F6-C60A5CA8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9208-7A73-436E-993A-B67C1D3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C7CF6-15D9-49FB-8A1C-FBA311A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161A5-4BA9-49AC-8B8F-D0B9D07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00A90-B4E7-4A0C-B621-21927B6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56094-445B-48E4-85FA-1F731A9E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6AF7E-DF6F-467A-92AE-7E6E725F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94273-FA1F-4832-B808-18748F2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C3E9B-E081-46A8-BD4E-4770872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7C021-0E12-4EDB-A38B-8FCAAA3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BF465-2BF5-4A89-BEF1-2E1E6459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DD155-3E27-498C-8A12-A57E9D2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394-E2DA-448A-8C74-A19E299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1775A-F128-4A1B-8E6C-5BAF56C1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73EAA-913E-4011-886D-8F4AD97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36414-0491-480E-B58D-F5DB814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16DEF-3E7C-4C3B-AA67-53077D2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17196-CD3F-41DB-A90A-D2D76614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F972A-0ADE-45F6-9A9C-864885DE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AE309-E614-48F8-8AF8-E6B78137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15831-6BE2-4BCA-980B-966F7321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4F82C-40B8-4AFC-B87F-60ECE80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5B746-84D8-4C98-8BCE-FB9DCB1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997-9D85-4589-9438-DD37EEB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740C3-5EB9-43E9-89E1-E3A11A9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6A602-8E9C-4A16-B947-DD0BF1A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1C582-16B1-4DB4-B1D1-E48A4F98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A5B58-EB32-4BAA-A1CE-97C0A9E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892E5-605E-4B73-A608-1468199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C5899-79B9-41ED-9628-B9D6F02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88651-EC14-478D-BC3D-19E320B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4F8FD-D76F-4600-8763-18BDE180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50C74-3B6A-479F-B99F-FBCB9FFE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33154-659F-4B54-8202-A5C75455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687-C11E-4EC1-AA1E-FB93B1EA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E01B5-A1FE-442F-8A8A-92147D5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69708-55E3-4A21-9EC8-D3A98797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BE2A0-26FA-4368-826D-39474A1D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77E3F-6732-4CE8-B3C2-75206493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3B90C-A4B3-43C3-8BBA-06F81016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2741D-0D0F-436A-AE99-BF93CF6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4E0FA-9D1B-4D33-911F-D8FD1A9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F209C-074C-4F03-AE87-69FE382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EB30B-7F5B-4CBA-8490-FB6299FD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D70EC3-11A9-4A6C-B7CF-D61D4C74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74F-6B90-40FE-88B4-79A02E1D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07D9B-15E7-4F47-AD01-4BB256FE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BF34E-FF32-48B8-A297-4AC0691B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74542-84D6-490F-B185-0DF32AC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2FF69-1F04-4DF7-83A2-C18752F5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855A1-0B96-46C5-92F1-CE82A26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2C64C-9E01-4697-A739-5736821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D415F-8E39-4B0F-BD44-C505525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48AEB-F786-4E8F-B220-C4DB139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90A66-4816-4301-AFBD-4647750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9CA17-CDEE-4AA5-B85F-81D5E03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5014-82CC-49E5-96E2-7F454EAD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A2072-E469-4DF7-BA03-1558C8C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4E234-4595-4D24-9227-6B120CA4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7E027-698A-4B26-8AC0-05009069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1C11-CF07-4E6A-9F75-8FE5087E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3B19-E099-4C65-B60B-7C8D52E5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3263-E271-4ABE-9DEF-CB4D4F2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FC29-E6A2-4CE6-807F-262C6FB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405-3AEA-4254-86A5-8D6A9B0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8CF7-E62B-49B1-A8C4-992ECCF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D7CC-9B36-4F86-8274-AF89208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DFCD-DBCB-46D8-A355-074D456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780D-2DF0-4D1F-A46B-2E6B70E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5C3B-F73D-48F0-9DAE-4ED46A5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87F3-3564-4DF3-91D6-9BF738AF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66B6-6AB4-4E7D-BFE8-C0C61AAA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510D-D95D-491E-AA9C-CBBA4E89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FA26-5047-478B-B887-E88052E4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6461-7E28-4150-830E-CB0895FA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C10-FE88-4FD6-9FD0-D77822B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7DB1-F9BF-4653-AFB6-B1108F0C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88DF-BE23-4AB9-A8DD-19B8EED4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0002-FA7D-4C6A-8A17-627FDB0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3864-0011-4C1A-B1BA-45814716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1479-B961-4A75-891F-453BE31F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CD11-A15D-4E0E-83A2-2830AC6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8240-C54C-4BB7-9552-E171286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B4E4-1721-4F48-80F6-E21C8FD4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2C96-CAB4-42FB-BBA4-54CE4E85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E5AE-FB85-42CE-9DCC-C59C7C2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34A-2628-4AEE-9571-081C9C8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0757-3C13-49B1-8F9A-6CB46BEC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DD27-58E1-4D8D-9C39-5FB5F17C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A2B6-1D2F-46AA-8CCA-C93AF77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D5C6-4013-45B7-92E5-BF1634CE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E00D-5C65-45FC-90B0-2888376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BF42-9AAF-436A-A5D1-8A7AE2F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97B2-B158-486A-92FC-F3E3500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FC52-1B88-4F28-9A00-3196DC3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2A7B-1D68-4346-97AA-857CB00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C167-7C41-428D-9366-E47A790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F9D-15BC-4D7B-85CC-EDC2BBF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B973-5FEC-41C8-9A38-BE07C59B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6C68-3BC1-4C03-80B8-F3FA215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5F28-B51C-48FD-8B95-8EA1BBA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77639-9BDF-4E21-ABA8-6BCC974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8722-325B-4CB0-B85F-8EDDD181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8D027-E054-4C0C-84EB-B3F892E9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C493-43E7-400A-B855-6F0957FD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8D46-C760-4896-AE39-252CB6A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56B3-2D2B-459C-A5F3-9D5D62E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77D6-7A55-4404-9C3B-278C2B7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0AD-415D-48F8-B061-0C2FF0D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8FEA-7BB8-4A5B-AFA5-F1DD860B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5A6A-7D0A-47EC-8963-893A35B1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A475-5AB5-47C5-A132-E13C8A7E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C6AC-6F78-4DD5-AF88-EB72CDA8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D3ED-8A38-4E57-8429-7CE162B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66C4-CD2B-476C-A5A6-34707BD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FF87E-6493-4ED2-8CD6-21A1C67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1CE3-BFFB-4DD2-8995-CA94355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3D954-130F-42C5-8E55-59E74B7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F9FC-525E-4675-BB9E-6BBA0D8D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AD2-7865-46F6-AD6F-2C166DD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9FEE-3744-43AE-B4DA-44690BD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2A82-903E-44E0-AAA7-7EBE2E2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E101A-B1CA-4BC0-927C-92D604F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7EDB-264F-4C2A-B392-74FCE97B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6CAD-241E-4951-B917-2354A42A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9717-717A-4816-83C1-57CF17DF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7685-D3B7-4068-A721-2FAE366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CD26F-2149-4C35-BBFE-A958E2A0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0E72-EC9D-45BE-97B6-424A724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C1F8-FC0A-415A-B3D2-BA6464EA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9E0-3328-4BA7-BF81-23EFB40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C7AF-2E16-4E56-835C-6130EA2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3DB1-0B70-4134-A65F-56696C1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17302-3F10-4D1B-83C8-59B6C4E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102EF-77A1-446D-B235-1D5E63B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DEAD-B763-44E5-8911-F81B509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E5BB7-69B1-44A9-B543-9414D7D4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688A-CC7B-473E-ADDD-8694C432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EC19-DFB4-4A33-B027-8464A9E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929A-2FF1-40BE-8AD6-B2720160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E1457-95C4-4ABC-9FE7-B82B6E7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BCF-B298-44E7-A2CA-7DB7F993B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15C-3C63-4E36-9100-FD0ED6B622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983-0CE5-4A8D-AB7C-4C7715462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C27-EE33-4375-BC70-7AA8E3B88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34B-4077-4210-8676-4085FE9F1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71F-0435-40C2-A3CD-614E12920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0ED-947D-4A36-94C6-AF11FCA5C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C33-AC4F-46A1-BE6E-BA60951DD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A94-C01E-431C-AF80-5F22EEBC1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C88-84BB-44A4-949C-4368C410A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2E2-EBF3-43A3-A740-84047AD42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0D38-4C2A-4BD0-81ED-606A43A3C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668-41D8-4F6C-A781-A5E33AB4AA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573F-3825-42DC-B01A-79EBE77BE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D011-DDA5-4023-97A9-53536C7BA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ADB9-DB91-479C-A7D9-B702EA629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D66C-BEB0-4407-BEEF-ECB66D3C8D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3876-5D33-4B1D-90A9-3E4A21D4C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09B8-C86D-4A4C-8736-69F5F99AC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2750-6601-4C24-BA9A-B123B263D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623-72C1-4D8B-98AB-1FD0D61E7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950-2950-41DA-A015-DBD18C013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089-2410-4E5B-AD70-183B5E8F3A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7BB4-A619-4EDD-8036-1E5B5EAF5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B30-4046-4AC7-AB8F-DBDF8AB8B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7BF-07C9-4062-9355-5AEE93804C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756-CA82-45F2-B5A7-7609A3EB1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4AF-3F0B-40ED-9DEF-0BB3F3C72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7C1-004E-4226-9F6B-DCAE8C6FE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779D-BCB1-48D0-B8D4-99A0A1728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CD4-5923-465B-82DF-8D8992A4FB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C4A9-F96E-4285-8BD0-0F94E6775A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D90-3F5F-45C9-A05B-0FBC989FD9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DB7C-F242-47B8-9275-52DB828E5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FBAD-1601-4CEA-8499-C6D029F08E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248-4E59-4AE6-956B-6F55477A6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30C5-4B57-42B9-AD3C-ECE4A1961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9BF-129A-45B7-979C-0D9546ADF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94CD-29D9-47E0-B0CB-4A3E30580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50B-6C85-4EE4-BC37-1F863E7D8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33400" y="3024360"/>
            <a:ext cx="56772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243000" y="895320"/>
            <a:ext cx="8658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8609" descr=""/>
          <p:cNvPicPr/>
          <p:nvPr/>
        </p:nvPicPr>
        <p:blipFill>
          <a:blip r:embed="rId1"/>
          <a:stretch/>
        </p:blipFill>
        <p:spPr>
          <a:xfrm>
            <a:off x="747720" y="771480"/>
            <a:ext cx="7648560" cy="5315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8611" descr=""/>
          <p:cNvPicPr/>
          <p:nvPr/>
        </p:nvPicPr>
        <p:blipFill>
          <a:blip r:embed="rId3"/>
          <a:stretch/>
        </p:blipFill>
        <p:spPr>
          <a:xfrm>
            <a:off x="3162240" y="841320"/>
            <a:ext cx="3667320" cy="3257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8064360" cy="493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539640" y="5373720"/>
            <a:ext cx="8064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2440" y="747720"/>
            <a:ext cx="84391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19120" y="1128600"/>
            <a:ext cx="8105760" cy="4600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3749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64328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237492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4284720" y="283860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570560" y="34005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012000" y="3400560"/>
            <a:ext cx="23749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284720" y="397656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1619280" y="453708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3419640" y="5099040"/>
            <a:ext cx="1150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57040" y="758880"/>
            <a:ext cx="8629920" cy="58388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4" descr=""/>
          <p:cNvPicPr/>
          <p:nvPr/>
        </p:nvPicPr>
        <p:blipFill>
          <a:blip r:embed="rId2"/>
          <a:stretch/>
        </p:blipFill>
        <p:spPr>
          <a:xfrm>
            <a:off x="2028960" y="2087640"/>
            <a:ext cx="56102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23880" y="852480"/>
            <a:ext cx="7896240" cy="5600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4356000" y="193032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500720" y="2506680"/>
            <a:ext cx="10792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6300720" y="250668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1619280" y="306864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1476360" y="4221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4067280" y="422100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6084720" y="4221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1547640" y="4797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3924360" y="5891040"/>
            <a:ext cx="1079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595440" y="2562120"/>
            <a:ext cx="7953120" cy="17337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843280" y="3716280"/>
            <a:ext cx="122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623880" y="1123920"/>
            <a:ext cx="7896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519120" y="985680"/>
            <a:ext cx="8105760" cy="4886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451640" y="9669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908000" y="1585800"/>
            <a:ext cx="2376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516720" y="1571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3708360" y="2205000"/>
            <a:ext cx="93492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6659640" y="2205000"/>
            <a:ext cx="93492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3851280" y="3457440"/>
            <a:ext cx="649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5364000" y="3471840"/>
            <a:ext cx="2521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9"/>
          <a:stretch/>
        </p:blipFill>
        <p:spPr>
          <a:xfrm>
            <a:off x="2700360" y="4076640"/>
            <a:ext cx="64944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0"/>
          <a:stretch/>
        </p:blipFill>
        <p:spPr>
          <a:xfrm>
            <a:off x="7380360" y="4076640"/>
            <a:ext cx="649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1"/>
          <a:stretch/>
        </p:blipFill>
        <p:spPr>
          <a:xfrm>
            <a:off x="1908000" y="4724280"/>
            <a:ext cx="251964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2"/>
          <a:stretch/>
        </p:blipFill>
        <p:spPr>
          <a:xfrm>
            <a:off x="6862680" y="4724280"/>
            <a:ext cx="649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523800" y="1862280"/>
            <a:ext cx="8096400" cy="3133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3203640" y="19303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230508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2268360" y="25351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443640" y="256536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2540160" y="3184560"/>
            <a:ext cx="76500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6948360" y="3198960"/>
            <a:ext cx="76536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1258920" y="3832200"/>
            <a:ext cx="2665440" cy="493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6227640" y="3803760"/>
            <a:ext cx="765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4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